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9BE-6989-4A14-8D8F-9069B946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39A-469F-4166-9ED8-B988CABE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DEF-DE37-46D9-9215-5A7E2064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258-7345-4BC2-92F2-DA4C661A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B519-AA3C-410E-A67C-BFC5B162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0440-0A95-4293-9C0F-554CEBF6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2229-DBD7-4FB7-8326-4980E438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39A7-ED3E-4DA6-87FF-AE6D21DD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9AC5-9D40-465B-8C25-E2A0811C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200E-6B76-4B27-BE58-4CBBE9C4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C69F-9C82-409A-AE19-0AB99A6B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BE4-898B-45DA-B0A7-FB037432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293C-50C0-4E39-92B9-A81F8F53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D5EE-4AEA-4F77-A6C2-6F5111FB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4916-FB6F-4611-9C52-75248C3D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0FBD-D142-48D9-97C5-883F5A51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81A8-F191-4582-9C3D-1D359686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803-B8B0-463E-BF03-162FB895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749-F95B-4075-9F68-B1413F1A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119-C7E9-4069-9767-A6AFA1C9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ACA-863D-4D87-BD1E-4C89D216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200-C6FC-422B-979A-A3D009F8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66F-C883-4E2D-B3F2-43C86546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904-F3AC-492D-BCFD-DDC1D21D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B975-73D7-4BEE-A702-61063238A9F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F91D-DC38-48A5-BC4B-648602DB6FE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848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cc"/>
                </a:solidFill>
                <a:latin typeface="Arial"/>
              </a:rPr>
              <a:t>Me llamo ______ </a:t>
            </a:r>
            <a:r>
              <a:rPr b="0" lang="en-US" sz="3800" spc="-1" strike="noStrike">
                <a:solidFill>
                  <a:srgbClr val="99cccc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99cccc"/>
                </a:solidFill>
                <a:latin typeface="Arial"/>
              </a:rPr>
              <a:t>     Clase 6NH</a:t>
            </a:r>
            <a:br>
              <a:rPr sz="3800"/>
            </a:br>
            <a:r>
              <a:rPr b="0" lang="en-US" sz="3800" spc="-1" strike="noStrike">
                <a:solidFill>
                  <a:srgbClr val="99cccc"/>
                </a:solidFill>
                <a:latin typeface="Arial"/>
              </a:rPr>
              <a:t>La fecha es el 7 de marzo del 20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0000"/>
                </a:solidFill>
                <a:latin typeface="Arial"/>
              </a:rPr>
              <a:t>Propósito # 45: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A qué hora vas a la clas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mpleta con la palabra interrogativa correc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_______ estudias en la escuel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_______ es tu curso favori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_______ es tu profesora de cienci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_______ alumnos hay en tu cla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_______ es tu examen? </a:t>
            </a:r>
            <a:r>
              <a:rPr b="0" i="1" lang="es-ES_tradnl" sz="3000" spc="-1" strike="noStrike">
                <a:solidFill>
                  <a:srgbClr val="000000"/>
                </a:solidFill>
                <a:latin typeface="Arial"/>
              </a:rPr>
              <a:t>(viern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hora responde las pregunt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Los verbos </a:t>
            </a: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ir, dar, esta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verbs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i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to go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d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to give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st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to be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conjugated in the same way as regula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–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erbs EXCEPT for the Y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, how do we conjugate these verb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66680" y="3340080"/>
          <a:ext cx="7696080" cy="3517920"/>
        </p:xfrm>
        <a:graphic>
          <a:graphicData uri="http://schemas.openxmlformats.org/drawingml/2006/table">
            <a:tbl>
              <a:tblPr/>
              <a:tblGrid>
                <a:gridCol w="2438280"/>
                <a:gridCol w="1600200"/>
                <a:gridCol w="1733400"/>
                <a:gridCol w="19242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Ir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Dar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star 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.ella.Ud.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.ellas.Uds.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964680" y="38862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vo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5040" y="4419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v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41000" y="5029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v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4480" y="5486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vam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4680" y="60958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va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40480" y="38862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do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40840" y="4419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d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68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d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2240" y="5486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dam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40480" y="6095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93680" y="38862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esto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94400" y="4419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est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70000" y="4952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est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5800" y="54864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estam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03040" y="60958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está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Practic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y completa la oración con la forma correcta del verb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éctor ______ a casa después de la escuela. </a:t>
            </a:r>
            <a:r>
              <a:rPr b="1" lang="es-ES_tradnl" sz="2400" spc="-1" strike="noStrike">
                <a:solidFill>
                  <a:srgbClr val="cc0066"/>
                </a:solidFill>
                <a:latin typeface="Arial"/>
              </a:rPr>
              <a:t>(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maestros ________ exámenes una vez a la semana. </a:t>
            </a: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(d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ú _________ muy cansada. 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(es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ina y Gloria _______ a la playa en el verano. </a:t>
            </a:r>
            <a:r>
              <a:rPr b="1" lang="es-ES_tradnl" sz="2400" spc="-1" strike="noStrike">
                <a:solidFill>
                  <a:srgbClr val="cc0066"/>
                </a:solidFill>
                <a:latin typeface="Arial"/>
              </a:rPr>
              <a:t>(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r. Roa, ¿______ Ud. mucha tarea? </a:t>
            </a: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(d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men y yo __________ estudiando portugués. 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(es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___________ al museo todos los meses. </a:t>
            </a:r>
            <a:r>
              <a:rPr b="1" lang="es-ES_tradnl" sz="2400" spc="-1" strike="noStrike">
                <a:solidFill>
                  <a:srgbClr val="cc0066"/>
                </a:solidFill>
                <a:latin typeface="Arial"/>
              </a:rPr>
              <a:t>(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¡Rosa ___________ muchos problemas en la clase! </a:t>
            </a: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(d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alumnos _____________ muy felices porque no hay clases mañana. 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(es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_________ tú a la fiesta el viernes? </a:t>
            </a:r>
            <a:r>
              <a:rPr b="1" lang="es-ES_tradnl" sz="2400" spc="-1" strike="noStrike">
                <a:solidFill>
                  <a:srgbClr val="cc0066"/>
                </a:solidFill>
                <a:latin typeface="Arial"/>
              </a:rPr>
              <a:t>(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O: Copia y respond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istorieta 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. R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a p. R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124080"/>
            <a:ext cx="7010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Tarea # 44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4:19:11Z</dcterms:created>
  <dc:creator>Helen Zumaeta</dc:creator>
  <dc:description/>
  <dc:language>en-US</dc:language>
  <cp:lastModifiedBy>Helen Zumaeta</cp:lastModifiedBy>
  <dcterms:modified xsi:type="dcterms:W3CDTF">2012-03-07T19:59:47Z</dcterms:modified>
  <cp:revision>7</cp:revision>
  <dc:subject/>
  <dc:title>Me llamo ______       Clase 6NH La fecha es el 7 de marzo del 2012</dc:title>
</cp:coreProperties>
</file>